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CBFE7-6532-41D4-B33B-F24984590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69763-B782-44AD-83C0-68A121D50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857BB-EAB9-47C0-B0F7-66C81C27F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32238-A107-446F-94B7-5974DC724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470DC-807B-4362-ADE9-3DD5B5A10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F709F-5ECF-4C7E-9666-A97E38EA6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A9E39-10C7-4F13-B8C6-E2D5F03F6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449B-0DB5-4B18-999D-54E8B85A1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BAB68-5FAF-49DD-9919-1C4BE3B83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C43CB-0181-484E-91AB-20101E061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7958A-E1F1-4862-8D2C-EBF79796E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32428-AC15-4C4D-97AC-90C053C0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E8E6E-59BD-4195-9093-5EA59529B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A9D4F-0B6C-47BA-9583-EFBD4841D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8581C-ADEB-4BA7-8B12-A78E89F29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576C6-AFCB-4567-992D-472383CF6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9F8E6-EC35-49C3-915C-B2B52E0D4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55386C-2BD2-4573-8B40-5AD765F7FC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73382-3DBE-40CE-9D81-499E1FBE0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08A61-286B-4284-B50C-C2129FA46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1C5A7-75E8-4894-930C-99E969F20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4AE45-AC8F-4FAB-8732-ACAC258FF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EF839-F6C1-4FA6-B832-ED0AAC9BF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77254-1A21-4FFA-9EE6-44D1F8A7E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954D7-9485-4194-BC24-4475258D3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4A741-A26F-4288-B206-45B275C1E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9DF6D-E6BF-4830-95FA-C7FE82BD9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98148-804A-4B67-AD6E-04C1EF6BA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07138F-4B17-4169-98CB-697BD85DC4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D29A8-B02F-46F6-9B9E-18F04CF25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EA04C-5740-4F5D-AA3A-51E7EEE18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DCE1B-7B57-4426-B666-F8CA1405E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65C95-D126-40C8-B409-65FE624E1B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A66E3-D339-4CC1-AC81-5A0A0350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BEA9A-B093-43FC-99AC-A062B1C30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21D62-E384-4F42-9AB1-B3C1736C2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BE5814-D0F7-4A0A-9792-7433E5A16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13F1E-C22E-4DAA-82DA-CE99A4B85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15C9B-CB00-40BA-B0CB-FA2EAB793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1CE6B-4B27-45CF-83D2-8354D42FB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2B655-7443-4384-A7B5-CB0E85E74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8248A-A78E-489C-BBF2-1969A573F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78375-9C53-49F9-B003-3FC30D9C42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122AF6-8EB9-424C-8773-17C854D863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E0A1-9A14-482D-81E0-3A796C07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8F8FE-8865-4967-8B4D-AF7AC1472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339816-9F77-4AF5-AA7F-93E9B69C5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2056D-FEC1-4713-B341-9B4C5793B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9A209-41B0-4F9F-97D4-3109E4E05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2CCE0-BFC4-48C6-8481-507A4737F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74CCD-CA8F-4496-A796-94958E01E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3B4C0-6207-448C-8ADF-D770F4D66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5FEA3-EE47-4DF3-A0AE-66B45911F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F2341F-81E2-4060-B504-5D3585C7D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A09D4C-61FB-4540-A14E-73AF4918E1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A88D-2D88-4250-BBFD-CDEDF7DB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F915C-6BBF-4480-BECB-BE999E5EFF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C70E-7057-422C-B408-F64A3BB6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0166-068B-4100-8936-6C5626E1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8645-712F-4B30-844A-D8BD477BC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ea157a"/>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feb80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EDF1-C680-4837-9892-680242800BF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eb80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9EAF-FA7C-4AD6-BAFF-6936CEAB9C6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ea157a"/>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feb8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7EB8-3594-4ABA-A880-4C4F6016E79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feb8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e5b6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e5b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EFDE-FFD7-4B98-B932-BEBC2854F089}" type="slidenum">
              <a:rPr b="0" lang="en-US" sz="1600" spc="-1" strike="noStrike">
                <a:solidFill>
                  <a:srgbClr val="4e5b6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feb80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ea157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C736-D7DC-400F-A183-41AC9834E8E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97920" y="104544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DO NOW! </a:t>
            </a:r>
            <a:endParaRPr b="0" lang="en-US" sz="4400" spc="-1" strike="noStrike">
              <a:solidFill>
                <a:srgbClr val="000000"/>
              </a:solidFill>
              <a:latin typeface="Franklin Gothic Medium"/>
            </a:endParaRPr>
          </a:p>
        </p:txBody>
      </p:sp>
      <p:sp>
        <p:nvSpPr>
          <p:cNvPr id="216" name="PlaceHolder 2"/>
          <p:cNvSpPr>
            <a:spLocks noGrp="1"/>
          </p:cNvSpPr>
          <p:nvPr>
            <p:ph type="subTitle"/>
          </p:nvPr>
        </p:nvSpPr>
        <p:spPr>
          <a:xfrm rot="19140000">
            <a:off x="810720" y="1668600"/>
            <a:ext cx="6510600" cy="1295280"/>
          </a:xfrm>
          <a:prstGeom prst="rect">
            <a:avLst/>
          </a:prstGeom>
          <a:noFill/>
          <a:ln w="0">
            <a:noFill/>
          </a:ln>
        </p:spPr>
        <p:txBody>
          <a:bodyPr tIns="9000" anchor="t">
            <a:no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ea typeface="Tunga"/>
              </a:rPr>
              <a:t>DISCUSS YOUR HOMEWORK WITH THE PERSON NEXT TO YOU. YOU MAY ADD ANY EXTRA FINDINGS THAT YOUR PARTNERS HAS TO YOUR HOMEWORK.</a:t>
            </a:r>
            <a:endParaRPr b="1" lang="en-US" sz="2000" spc="-1" strike="noStrike">
              <a:solidFill>
                <a:srgbClr val="000000"/>
              </a:solidFill>
              <a:latin typeface="Franklin Gothic Book"/>
            </a:endParaRPr>
          </a:p>
        </p:txBody>
      </p:sp>
      <p:pic>
        <p:nvPicPr>
          <p:cNvPr id="217" name="Picture 7" descr="C:\Users\cranda\AppData\Local\Microsoft\Windows\Temporary Internet Files\Content.IE5\FIR6OLGY\MC900088956[1].wmf"/>
          <p:cNvPicPr/>
          <p:nvPr/>
        </p:nvPicPr>
        <p:blipFill>
          <a:blip r:embed="rId1"/>
          <a:stretch/>
        </p:blipFill>
        <p:spPr>
          <a:xfrm>
            <a:off x="4281480" y="3357720"/>
            <a:ext cx="4170240" cy="25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364680"/>
            <a:ext cx="792144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Franklin Gothic Medium"/>
              </a:rPr>
              <a:t>HOMEWORK – DUE TODAY</a:t>
            </a:r>
            <a:br>
              <a:rPr sz="3600"/>
            </a:br>
            <a:r>
              <a:rPr b="1" lang="en-GB" sz="3600" spc="-1" strike="noStrike">
                <a:solidFill>
                  <a:srgbClr val="b0105c"/>
                </a:solidFill>
                <a:latin typeface="Franklin Gothic Medium"/>
              </a:rPr>
              <a:t>HAND IN NOW PLEASE</a:t>
            </a:r>
            <a:endParaRPr b="0" lang="en-US" sz="3600" spc="-1" strike="noStrike">
              <a:solidFill>
                <a:srgbClr val="000000"/>
              </a:solidFill>
              <a:latin typeface="Franklin Gothic Medium"/>
            </a:endParaRPr>
          </a:p>
        </p:txBody>
      </p:sp>
      <p:sp>
        <p:nvSpPr>
          <p:cNvPr id="219" name=""/>
          <p:cNvSpPr txBox="1"/>
          <p:nvPr/>
        </p:nvSpPr>
        <p:spPr>
          <a:xfrm>
            <a:off x="304920" y="1413000"/>
            <a:ext cx="8686800" cy="42480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Franklin Gothic Book"/>
              </a:rPr>
              <a:t>Investigate where in the world Trance parties mainly take place and the religious preferences of these places. Does this have an effect on the styles of music played?</a:t>
            </a:r>
            <a:endParaRPr b="1" lang="en-US" sz="4000" spc="-1" strike="noStrike">
              <a:solidFill>
                <a:srgbClr val="000000"/>
              </a:solidFill>
              <a:latin typeface="Franklin Gothic Book"/>
            </a:endParaRPr>
          </a:p>
        </p:txBody>
      </p:sp>
      <p:sp>
        <p:nvSpPr>
          <p:cNvPr id="220" name="Title 1"/>
          <p:cNvSpPr/>
          <p:nvPr/>
        </p:nvSpPr>
        <p:spPr>
          <a:xfrm>
            <a:off x="611280" y="5189400"/>
            <a:ext cx="7848360" cy="14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IF YOU DO NOT HAND IN YOUR HOMEWORK YOU HAVE A DETENTION AFTER SCHOOL TODAY TO COMPLET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259920"/>
            <a:ext cx="6048360" cy="1800360"/>
          </a:xfrm>
          <a:prstGeom prst="rect">
            <a:avLst/>
          </a:prstGeom>
          <a:noFill/>
          <a:ln w="0">
            <a:noFill/>
          </a:ln>
        </p:spPr>
        <p:txBody>
          <a:bodyPr bIns="9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2:</a:t>
            </a:r>
            <a:br>
              <a:rPr sz="3600"/>
            </a:br>
            <a:r>
              <a:rPr b="0" lang="en-GB" sz="3600" spc="-1" strike="noStrike">
                <a:solidFill>
                  <a:srgbClr val="000000"/>
                </a:solidFill>
                <a:latin typeface="Arial"/>
                <a:ea typeface="Arial"/>
              </a:rPr>
              <a:t>THE FOUNDATIONS OF THE TRANCE TRACK</a:t>
            </a:r>
            <a:endParaRPr b="0" lang="en-US" sz="3600" spc="-1" strike="noStrike">
              <a:solidFill>
                <a:srgbClr val="000000"/>
              </a:solidFill>
              <a:latin typeface="Franklin Gothic Medium"/>
            </a:endParaRPr>
          </a:p>
        </p:txBody>
      </p:sp>
      <p:sp>
        <p:nvSpPr>
          <p:cNvPr id="222" name="TextBox 1"/>
          <p:cNvSpPr/>
          <p:nvPr/>
        </p:nvSpPr>
        <p:spPr>
          <a:xfrm>
            <a:off x="4356000" y="3068640"/>
            <a:ext cx="475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on Objec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explore how to use a midi controller and Logic Pro 9</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programme into Logic a simple trance drumbeat and identify the change and timing between two or three chords that will comprise the body of your trance compos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0920" y="260280"/>
            <a:ext cx="752148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OLAND A- 500 PRO MIDI CONTROLLER AND LOGIC PRO 9</a:t>
            </a:r>
            <a:endParaRPr b="0" lang="en-US" sz="2800" spc="-1" strike="noStrike">
              <a:solidFill>
                <a:srgbClr val="000000"/>
              </a:solidFill>
              <a:latin typeface="Franklin Gothic Medium"/>
            </a:endParaRPr>
          </a:p>
        </p:txBody>
      </p:sp>
      <p:sp>
        <p:nvSpPr>
          <p:cNvPr id="224" name=""/>
          <p:cNvSpPr txBox="1"/>
          <p:nvPr/>
        </p:nvSpPr>
        <p:spPr>
          <a:xfrm>
            <a:off x="304920" y="1484280"/>
            <a:ext cx="86868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atch the demonstration on how to use the Roland midi controller and how to use Logic Pro 9.</a:t>
            </a:r>
            <a:endParaRPr b="1"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5" name="Picture 7" descr=""/>
          <p:cNvPicPr/>
          <p:nvPr/>
        </p:nvPicPr>
        <p:blipFill>
          <a:blip r:embed="rId1"/>
          <a:stretch/>
        </p:blipFill>
        <p:spPr>
          <a:xfrm rot="20665800">
            <a:off x="185760" y="3193560"/>
            <a:ext cx="6608880" cy="2289240"/>
          </a:xfrm>
          <a:prstGeom prst="rect">
            <a:avLst/>
          </a:prstGeom>
          <a:ln w="0">
            <a:noFill/>
          </a:ln>
        </p:spPr>
      </p:pic>
      <p:pic>
        <p:nvPicPr>
          <p:cNvPr id="226" name="Picture 8" descr=""/>
          <p:cNvPicPr/>
          <p:nvPr/>
        </p:nvPicPr>
        <p:blipFill>
          <a:blip r:embed="rId2"/>
          <a:stretch/>
        </p:blipFill>
        <p:spPr>
          <a:xfrm>
            <a:off x="6156360" y="3933720"/>
            <a:ext cx="2781360" cy="27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TASKS</a:t>
            </a:r>
            <a:endParaRPr b="0" lang="en-US" sz="2800" spc="-1" strike="noStrike">
              <a:solidFill>
                <a:srgbClr val="000000"/>
              </a:solidFill>
              <a:latin typeface="Franklin Gothic Medium"/>
            </a:endParaRPr>
          </a:p>
        </p:txBody>
      </p:sp>
      <p:sp>
        <p:nvSpPr>
          <p:cNvPr id="228" name=""/>
          <p:cNvSpPr txBox="1"/>
          <p:nvPr/>
        </p:nvSpPr>
        <p:spPr>
          <a:xfrm>
            <a:off x="179280" y="1052640"/>
            <a:ext cx="8785440" cy="5472000"/>
          </a:xfrm>
          <a:prstGeom prst="rect">
            <a:avLst/>
          </a:prstGeom>
          <a:solidFill>
            <a:srgbClr val="ffffff"/>
          </a:solidFill>
          <a:ln w="9360">
            <a:solidFill>
              <a:srgbClr val="5fa326"/>
            </a:solidFill>
            <a:miter/>
          </a:ln>
        </p:spPr>
        <p:txBody>
          <a:bodyPr anchor="t">
            <a:normAutofit fontScale="95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Book"/>
              </a:rPr>
              <a:t>The assessment for this project is a trance composition created using the Roland midi controller and Logic Pro. You will work in pairs and each lesson you will add more parts to your composition by following tasks in order.</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1 </a:t>
            </a:r>
            <a:r>
              <a:rPr b="0" lang="en-GB" sz="2200" spc="-1" strike="noStrike">
                <a:solidFill>
                  <a:srgbClr val="000000"/>
                </a:solidFill>
                <a:latin typeface="Franklin Gothic Book"/>
              </a:rPr>
              <a:t>– Use the ‘Programming a Trance drumbeat’ worksheet to input it into Logic using the midi controller. Use a trance drum kit from the Ultrabeat synthesiser.</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2 </a:t>
            </a:r>
            <a:r>
              <a:rPr b="0" lang="en-GB" sz="2200" spc="-1" strike="noStrike">
                <a:solidFill>
                  <a:srgbClr val="000000"/>
                </a:solidFill>
                <a:latin typeface="Franklin Gothic Book"/>
              </a:rPr>
              <a:t>– Choose two or three chords from the ‘Trance Chords’ worksheet. You must have at least one major and one minor chord. As a pair decide on how often the chords will change, what instrument sound will be used and then input them into Logic using the midi controller. Your chords will play at the same time as the drum beat you have already programmed in. Add reverb and/or delay to your chord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ask 3 </a:t>
            </a:r>
            <a:r>
              <a:rPr b="0" lang="en-GB" sz="2200" spc="-1" strike="noStrike">
                <a:solidFill>
                  <a:srgbClr val="000000"/>
                </a:solidFill>
                <a:latin typeface="Franklin Gothic Book"/>
              </a:rPr>
              <a:t>– From the sample bank of 6 different drum sounds/beats (Go to the Shared area W drive, K Music, Trance Sounds) choose two or three and copy them into your area. Give each one a name you will remember. Add these varying rhythms to your chords (the chords repeat over and over). You can drag these samples onto an audio track.</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COMPOSING - LOG</a:t>
            </a:r>
            <a:endParaRPr b="0" lang="en-US" sz="2800" spc="-1" strike="noStrike">
              <a:solidFill>
                <a:srgbClr val="000000"/>
              </a:solidFill>
              <a:latin typeface="Franklin Gothic Medium"/>
            </a:endParaRPr>
          </a:p>
        </p:txBody>
      </p:sp>
      <p:sp>
        <p:nvSpPr>
          <p:cNvPr id="230" name=""/>
          <p:cNvSpPr txBox="1"/>
          <p:nvPr/>
        </p:nvSpPr>
        <p:spPr>
          <a:xfrm>
            <a:off x="610920" y="1052280"/>
            <a:ext cx="7848360" cy="309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Complete the first two boxes the Log worksheet about what tasks you completed today, how you have used music technology and any additional info like what instrument you used, sound effects etc. </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9:08:33Z</dcterms:created>
  <dc:creator>Jonathan Savage</dc:creator>
  <dc:description/>
  <dc:language>en-US</dc:language>
  <cp:lastModifiedBy>cranda</cp:lastModifiedBy>
  <dcterms:modified xsi:type="dcterms:W3CDTF">2012-02-17T18:02:47Z</dcterms:modified>
  <cp:revision>27</cp:revision>
  <dc:subject/>
  <dc:title>Trance Music</dc:title>
</cp:coreProperties>
</file>